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9DC9-03D3-4F93-B97D-3A9AEF94B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mun.ca/biology/scarr/Arginine_nutritional_mutants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flickr.com/photos/agathman/5469134899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pnas.org/site/misc/ingram.s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blackpast.org/?q=aah/sickle-cell-anemia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gassama.myweb.uga.edu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first 7 amino acids in the hemoglobin ß-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is normal (with glutamic acid), Right is sickle-cell anemia (with val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library.thinkquest.org/17109/diseases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dnaftb.org/13/bio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gfmer.ch/genetic_diseases_v2/gendis_detail_list.php?cat3=18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nature.com/scitable/topicpage/cell-metabolism-1402618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d a book called Inborn Errors of Metaboism in 19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luded alkaptonuria, cystinuria, pentosuria, albi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iki.cstl.semo.edu/agathman/Proteins%20and%20genes.ashx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sandwalk.blogspot.com/2008/05/nobel-laureates-george-beadle-and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publications.nigms.nih.gov/thenewgenetics/livinglab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al nutrient medium contained inorganic salts, sugar, one of the B vita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7905-126D-43AA-8128-ECF70687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54C9-0148-4DE9-ACDC-650681DA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E060-3288-4E9C-B96D-36D21251D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E9E3-62A7-4572-9FC1-4E4B6D603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00FF-A72B-4A20-ABDD-B9710CC0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F5F1-1915-4EBB-B2FA-A8BE76C0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E190-7CA0-45B8-B4A9-5BC90F21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004B-FBA1-4B8A-BFC6-8796D7C6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5403-4B6F-477E-B22C-B7D516FC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9200-DF01-4F6B-8DC2-2FC19122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68CA-C69B-46B4-8224-0B00934E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613F-829C-4A8F-8821-6E1434EA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A1DA-196A-4B47-8C34-702A49A48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2437316/student_view0/chapter14/chapter_quiz.html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dnaftb.org/16/animation.html" TargetMode="External"/><Relationship Id="rId2" Type="http://schemas.openxmlformats.org/officeDocument/2006/relationships/hyperlink" Target="http://wps.prenhall.com/wps/media/objects/1552/1589869/web_tut/21_04/21_04_01a.swf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ecular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Gene-One Polypept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dle &amp; Ta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nt strains were unable to grow on minimal nutrient me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ome mutant strains, addi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gin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minimal nutrient medium resulted in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 pathway for synthesis of arginine was determined through experi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738360"/>
            <a:ext cx="777240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ginine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13040" y="1981080"/>
            <a:ext cx="5316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Gene-One Enzy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dle &amp; Tatum’s work resulted in the one gene-one enzyme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hypothesis is more accurately known a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gene-one polypept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non In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-American Biology professor (1924-2006) who studied sickle-cell an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48320" y="2787480"/>
            <a:ext cx="38098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ckle-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ditary di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blood cells contain abnormal hemoglobin, causing crescent sha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 difficulty with blood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971960" y="1981080"/>
            <a:ext cx="3160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ckle-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d the hemoglobin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d the difference between hemoglobin of normal RBCs and sickle cell anemia RB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oglobin ß-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48080" y="1981080"/>
            <a:ext cx="404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yoursel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quiz includes questions on history of DNA research as well as replica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ighered.mcgraw-hill.com/sites/0072437316/student_view0/chapter14/chapter_quiz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dle &amp; Tatum experiments (excellent slideshow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ftb.org/16/animation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dle &amp; Tatum (narrated animation…a bit d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ps.prenhall.com/wps/media/objects/1552/1589869/web_tut/21_04/21_04_01a.sw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bald Garrod (1857-196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ish physician who studied metabolic defects in newbo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d family history of certain ill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22880" y="1981080"/>
            <a:ext cx="266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kaptonu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ditary disease that caused urine to turn black due to accumulation of alkapton (homogentisic ac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2624040"/>
            <a:ext cx="38098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rod’s hypothe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borns who were fed extra phenylalanine (an amino acid) had increased blackness in u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…alkaptonuria must be caused by defective enzy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…the defective enzyme must be caused by an error in hereditary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rod’s 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ctive alkapton-metabolizing enzyme part of a metabolic path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born error of metabolism” (192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4192560"/>
            <a:ext cx="77724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enylalanine Meta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00160" y="1981080"/>
            <a:ext cx="514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dle &amp; Ta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genetic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shed paper  (1941) with findings on relationship betwee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zy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red bread moul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urospora cr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48320" y="2365200"/>
            <a:ext cx="380988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eurospora cras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673360" y="1981080"/>
            <a:ext cx="3795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dle &amp; Ta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”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. crass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able to grow on minimal nutrient medium (i.e. it was able to synthesize all needed amino acids and vitami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nt” strain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. cras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ere created through exposure to X-rays or UV 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22:10:59Z</dcterms:created>
  <dc:creator>rubina khan</dc:creator>
  <dc:description/>
  <dc:language>en-US</dc:language>
  <cp:lastModifiedBy>rubina khan</cp:lastModifiedBy>
  <dcterms:modified xsi:type="dcterms:W3CDTF">2012-11-15T14:58:02Z</dcterms:modified>
  <cp:revision>93</cp:revision>
  <dc:subject/>
  <dc:title>Molecular Genetics</dc:title>
</cp:coreProperties>
</file>